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8404800" cy="38404800"/>
  <p:notesSz cx="8686800" cy="6400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F67-0531-4295-8E0A-016A505F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3456288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20960" y="22199040"/>
            <a:ext cx="3456288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D96-67B9-4ECA-9D66-81F9837E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31160" y="896112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20960" y="2219904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31160" y="2219904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55E-28F1-4A88-8D19-112B9371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1112904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06920" y="8961120"/>
            <a:ext cx="1112904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92880" y="8961120"/>
            <a:ext cx="1112904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20960" y="22199040"/>
            <a:ext cx="1112904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606920" y="22199040"/>
            <a:ext cx="1112904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92880" y="22199040"/>
            <a:ext cx="1112904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A2D-9185-4A3A-814B-AE0846A6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20960" y="8961120"/>
            <a:ext cx="34562880" cy="253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9E6-DDAA-4C83-8C3B-D292BCEB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34562880" cy="253443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3AC-DCBA-4FF0-8097-8E22F73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16866360" cy="253443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31160" y="8961120"/>
            <a:ext cx="16866360" cy="253443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6BE-8821-46CB-8144-560B0C5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B83-5BE6-43DA-A577-EEB70C5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0960" y="1538280"/>
            <a:ext cx="34562880" cy="296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C53-408B-49D2-ADD9-A273D17E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31160" y="8961120"/>
            <a:ext cx="16866360" cy="253443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20960" y="2219904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BCA-7944-4326-B0B0-790E726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16866360" cy="253443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31160" y="896112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31160" y="2219904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11B-1A43-457C-BAAF-71B28E0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20960" y="896112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31160" y="8961120"/>
            <a:ext cx="1686636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20960" y="22199040"/>
            <a:ext cx="34562880" cy="120891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3800"/>
                <a:tab algn="l" pos="6267600"/>
                <a:tab algn="l" pos="940104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3A3-860E-4653-8DC2-0B44F0B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0960" y="1538280"/>
            <a:ext cx="34562880" cy="6400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20960" y="8961120"/>
            <a:ext cx="34562880" cy="253443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4680" indent="-1174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5484960" indent="-782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3800"/>
                <a:tab algn="l" pos="6267600"/>
                <a:tab algn="l" pos="94010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20960" y="35595000"/>
            <a:ext cx="8959680" cy="2044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>
              <a:buNone/>
              <a:tabLst>
                <a:tab algn="l" pos="0"/>
                <a:tab algn="l" pos="3133800"/>
                <a:tab algn="l" pos="6267600"/>
                <a:tab algn="l" pos="940104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0" lang="en-US" sz="4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2360" y="35595000"/>
            <a:ext cx="12160080" cy="2044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4160" y="35595000"/>
            <a:ext cx="8959680" cy="2044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 algn="r">
              <a:buNone/>
              <a:tabLst>
                <a:tab algn="l" pos="0"/>
                <a:tab algn="l" pos="3133800"/>
                <a:tab algn="l" pos="6267600"/>
                <a:tab algn="l" pos="940104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133800"/>
                <a:tab algn="l" pos="6267600"/>
                <a:tab algn="l" pos="9401040"/>
              </a:tabLst>
            </a:pPr>
            <a:fld id="{61C240B4-FD14-499B-A8DA-490280779D79}" type="slidenum">
              <a:rPr b="0" lang="en-US" sz="4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0"/>
          <p:cNvSpPr/>
          <p:nvPr/>
        </p:nvSpPr>
        <p:spPr>
          <a:xfrm>
            <a:off x="1828800" y="1828800"/>
            <a:ext cx="34747200" cy="3474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7"/>
          <p:cNvSpPr/>
          <p:nvPr/>
        </p:nvSpPr>
        <p:spPr>
          <a:xfrm>
            <a:off x="4114800" y="4114800"/>
            <a:ext cx="30175200" cy="30175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8"/>
          <p:cNvSpPr/>
          <p:nvPr/>
        </p:nvSpPr>
        <p:spPr>
          <a:xfrm>
            <a:off x="8686800" y="8686800"/>
            <a:ext cx="21031200" cy="2103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9"/>
          <p:cNvSpPr/>
          <p:nvPr/>
        </p:nvSpPr>
        <p:spPr>
          <a:xfrm>
            <a:off x="10972800" y="10972800"/>
            <a:ext cx="16459200" cy="16459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FIRSTlogoR_color_cmyk2.eps"/>
          <p:cNvPicPr/>
          <p:nvPr/>
        </p:nvPicPr>
        <p:blipFill>
          <a:blip r:embed="rId1"/>
          <a:stretch/>
        </p:blipFill>
        <p:spPr>
          <a:xfrm>
            <a:off x="11658600" y="12268080"/>
            <a:ext cx="14630400" cy="121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10"/>
          <p:cNvSpPr/>
          <p:nvPr/>
        </p:nvSpPr>
        <p:spPr>
          <a:xfrm>
            <a:off x="1828800" y="1828800"/>
            <a:ext cx="34747200" cy="3474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114800" y="4114800"/>
            <a:ext cx="30175200" cy="30175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8"/>
          <p:cNvSpPr/>
          <p:nvPr/>
        </p:nvSpPr>
        <p:spPr>
          <a:xfrm>
            <a:off x="8686800" y="8686800"/>
            <a:ext cx="21031200" cy="21031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9"/>
          <p:cNvSpPr/>
          <p:nvPr/>
        </p:nvSpPr>
        <p:spPr>
          <a:xfrm>
            <a:off x="10972800" y="10972800"/>
            <a:ext cx="16459200" cy="16459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3133800"/>
                <a:tab algn="l" pos="6267600"/>
                <a:tab algn="l" pos="94010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FIRSTlogoR_color_cmyk2.eps"/>
          <p:cNvPicPr/>
          <p:nvPr/>
        </p:nvPicPr>
        <p:blipFill>
          <a:blip r:embed="rId1"/>
          <a:stretch/>
        </p:blipFill>
        <p:spPr>
          <a:xfrm>
            <a:off x="11658600" y="12268080"/>
            <a:ext cx="14630400" cy="12188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13"/>
          <p:cNvCxnSpPr/>
          <p:nvPr/>
        </p:nvCxnSpPr>
        <p:spPr>
          <a:xfrm flipH="1">
            <a:off x="31012560" y="3961440"/>
            <a:ext cx="2667960" cy="2515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2" name="Straight Connector 15"/>
          <p:cNvSpPr/>
          <p:nvPr/>
        </p:nvSpPr>
        <p:spPr>
          <a:xfrm flipH="1">
            <a:off x="33680160" y="39625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34366320" y="342900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Ø 38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7"/>
          <p:cNvCxnSpPr/>
          <p:nvPr/>
        </p:nvCxnSpPr>
        <p:spPr>
          <a:xfrm flipH="1" flipV="1">
            <a:off x="34289640" y="18973440"/>
            <a:ext cx="22867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55" name="TextBox 20"/>
          <p:cNvSpPr/>
          <p:nvPr/>
        </p:nvSpPr>
        <p:spPr>
          <a:xfrm>
            <a:off x="34747200" y="178308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2.5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23"/>
          <p:cNvCxnSpPr/>
          <p:nvPr/>
        </p:nvCxnSpPr>
        <p:spPr>
          <a:xfrm flipH="1" flipV="1">
            <a:off x="27431640" y="18973440"/>
            <a:ext cx="22867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57" name="TextBox 24"/>
          <p:cNvSpPr/>
          <p:nvPr/>
        </p:nvSpPr>
        <p:spPr>
          <a:xfrm>
            <a:off x="27812880" y="1767852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2.5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26"/>
          <p:cNvCxnSpPr/>
          <p:nvPr/>
        </p:nvCxnSpPr>
        <p:spPr>
          <a:xfrm flipH="1" flipV="1">
            <a:off x="29717640" y="18973440"/>
            <a:ext cx="45727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lg" type="triangle" w="lg"/>
            <a:tailEnd len="lg" type="triangle" w="lg"/>
          </a:ln>
        </p:spPr>
      </p:cxnSp>
      <p:sp>
        <p:nvSpPr>
          <p:cNvPr id="59" name="TextBox 27"/>
          <p:cNvSpPr/>
          <p:nvPr/>
        </p:nvSpPr>
        <p:spPr>
          <a:xfrm>
            <a:off x="31699080" y="177544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33800"/>
                <a:tab algn="l" pos="6267600"/>
                <a:tab algn="l" pos="940104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5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9:41:17Z</dcterms:created>
  <dc:creator>narosenberg</dc:creator>
  <dc:description/>
  <dc:language>en-US</dc:language>
  <cp:lastModifiedBy>Matt Pilotte</cp:lastModifiedBy>
  <dcterms:modified xsi:type="dcterms:W3CDTF">2010-01-15T20:52:36Z</dcterms:modified>
  <cp:revision>25</cp:revision>
  <dc:subject/>
  <dc:title>Slide 1</dc:title>
</cp:coreProperties>
</file>